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982-7BB6-4546-A87E-39023A8C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6E6D-0A13-4C36-8572-029865B4C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1160-A89A-4B03-8541-EF8B0EDD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49C3-046B-4411-91D0-CB1DB2B2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7E6-C0CD-4356-9AC4-622E6728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3A0-5B0C-4C04-A523-9D994847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2981-A401-4493-A1E5-B2895BD2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835-B416-4540-974B-364B05A6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066-8D2D-40CD-BF04-877A7EC8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0AC-26B1-4175-A57C-D03F2CD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A17-05F1-4CA4-9748-E7E11EBF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C2E-EC0D-49DE-A330-2CFCF1EF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856B-320B-4C76-B6AB-45428453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ADE1-DBD3-491D-AAA1-722552DD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F278-195F-46CC-A0AB-6C87B847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881D-DD55-4306-A830-CB58715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9B1C-BDB2-42B0-9ED0-1D047972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79C9-9728-4F00-82E4-D8E0AB62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AF79-8FE1-4928-A96E-F62E92A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CB8-FDB3-4543-A88A-E9A273F7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A26B-AC5D-42A6-A5C8-8F32A70B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2815-E117-49F4-AB00-F668685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4963-3FAE-4D0A-B3D3-A27B36A6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E1BB-CD84-41CD-BC5C-7F58D8D9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7D63-7D4C-4EB5-B285-63649E99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A2BDE-F6F9-48AF-9DEA-0902B9FC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F49F8-3683-4339-AD9B-0AB49657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60D8C-742F-49F9-8135-180B364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71752-34F4-4667-897F-7956C93D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60C7E-C7AD-44DE-88B3-A133F180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909-6E28-4F26-880B-8E9171F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02988-92A7-4F5B-B667-2187E6AB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012FB-780E-4ED2-9956-706F1D1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44AA9-712F-4D6E-A04D-8E497C9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68AC9-5ACB-4A2A-8C72-AFF9FFD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42C4E-F929-48CD-B514-51F977D2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3CB26-7817-415B-84C9-4FA081A2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BE9F8-A2FD-4070-A6EB-69A46BB0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2B16-9E4F-4ECA-9BD4-E84BE9FB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0985-AB42-45FD-BF47-52AE05D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D7110-3B41-4B25-8B86-B499AC3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CAB-E726-4E4D-8777-3CA46F0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3C04-1F77-4DA7-9BEF-CA951AB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9F30-E9E9-4509-90B1-F4C6DC44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BF4C-A577-4895-9E34-5654CF4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6A41-D3D2-41F8-A4F2-9257757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D7E3-A2D9-41EB-AA8C-54CA8A9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0F194-1E3F-46F9-8CDF-78DC5B0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FF48-B32F-449C-AE21-6C971DA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B5E6-30A7-48AE-B240-A4E53718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FB79-A9EB-455F-8FEA-95B36A3A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173AA-BEE8-43DE-9CF1-3C413E95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A8D-A58C-4C28-ADAF-3CD509E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918D6-1B01-4171-983E-61423C2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C2682-B79D-4D57-9D4D-7862A99F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D2789-920B-42BA-8CB1-F692092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F441A-8448-4BE0-901F-CAD72C9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6610D-5C90-4E2D-A58A-F184DE93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14503-FAA2-4D6D-99C0-AC4C6D0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50AF4-F842-4FA4-826F-54BC130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B7AE6-DD1C-4EDF-AF75-A04A8CD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402D6-FEDC-4CE8-BEC9-2B8F671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FBD7A-57C3-48DC-9717-8DC2BAD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A5D-2F71-4023-A635-F742E20B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F3560-6257-4064-AB5B-7BE5CA07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289-003D-4EC3-AB3B-964D7D4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3D0-35C3-420D-8803-1D851B80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8BA-3CCC-4944-A64F-CA72161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95F6-F0B5-460A-A135-579E9A736DA8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388c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AEA-4457-40B8-ACB6-C1C7A9ABD418}" type="slidenum">
              <a:rPr b="0" lang="en-US" sz="1200" spc="-1" strike="noStrike">
                <a:solidFill>
                  <a:srgbClr val="ff388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D095-63A3-4717-9B2F-2FDD0DD3E14E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7F5C-FB5D-493B-869D-AD9AE5038210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c4c4"/>
            </a:gs>
            <a:gs pos="100000">
              <a:srgbClr val="7d7d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88c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E832-7EC1-4492-8B16-F2486071609D}" type="slidenum">
              <a:rPr b="0" lang="en-US" sz="1200" spc="-1" strike="noStrike">
                <a:solidFill>
                  <a:srgbClr val="fefef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88c"/>
                </a:solidFill>
                <a:uFillTx/>
                <a:latin typeface="Century Gothic"/>
              </a:rPr>
              <a:t>DO NOW!</a:t>
            </a:r>
            <a:endParaRPr b="0" lang="en-US" sz="6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09480" y="1752120"/>
            <a:ext cx="792504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1125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5bd3"/>
                </a:solidFill>
                <a:latin typeface="Century Gothic"/>
              </a:rPr>
              <a:t>Which part of C.A.S.T. do you find the most challenging to complete in your paragraph writing?  Why?</a:t>
            </a:r>
            <a:endParaRPr b="0" lang="en-US" sz="45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27" name="Picture 2" descr="http://generic.pixmac.com/4/image-84477422.jpg"/>
          <p:cNvPicPr/>
          <p:nvPr/>
        </p:nvPicPr>
        <p:blipFill>
          <a:blip r:embed="rId1"/>
          <a:srcRect l="0" t="13670" r="0" b="13968"/>
          <a:stretch/>
        </p:blipFill>
        <p:spPr>
          <a:xfrm>
            <a:off x="990720" y="464832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ff388c"/>
                </a:solidFill>
                <a:uFillTx/>
                <a:latin typeface="Century Gothic"/>
              </a:rPr>
              <a:t>Informal Writing – What Is Wrong Here?</a:t>
            </a:r>
            <a:endParaRPr b="0" lang="en-US" sz="33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5bd3"/>
                </a:solidFill>
                <a:latin typeface="Century Gothic"/>
              </a:rPr>
              <a:t>You know that book we read? Well, I think it’s a sweet example of dystopia. There is a lot of stuff the people do that isn’t perfect at all.  They all have to act the same and stuff. But hey, the main character Jonas rebels against everyone, he’s a cool guy.  In my essay I am going to explain this more.  I hope you are going to agree with me. </a:t>
            </a:r>
            <a:r>
              <a:rPr b="0" lang="en-US" sz="2700" spc="-1" strike="noStrike">
                <a:solidFill>
                  <a:srgbClr val="666666"/>
                </a:solidFill>
                <a:latin typeface="Century Gothic"/>
              </a:rPr>
              <a:t> </a:t>
            </a:r>
            <a:endParaRPr b="0" lang="en-US" sz="2700" spc="-1" strike="noStrike">
              <a:solidFill>
                <a:srgbClr val="666666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388c"/>
                </a:solidFill>
                <a:uFillTx/>
                <a:latin typeface="Century Gothic"/>
              </a:rPr>
              <a:t>Informal Writing – How Could We Make This Formal?</a:t>
            </a:r>
            <a:endParaRPr b="0" lang="en-US" sz="35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5bd3"/>
                </a:solidFill>
                <a:latin typeface="Century Gothic"/>
              </a:rPr>
              <a:t>You know that book we read? Well, I think it’s a sweet example of dystopia. There is a lot of stuff the people do that isn’t perfect at all.  They all have to act the same and stuff. But hey, the main character Jonas rebels against everyone, he’s a cool guy.  In my essay I am going to explain this more.  I hope you are going to agree with me. </a:t>
            </a:r>
            <a:r>
              <a:rPr b="0" lang="en-US" sz="2500" spc="-1" strike="noStrike">
                <a:solidFill>
                  <a:srgbClr val="666666"/>
                </a:solidFill>
                <a:latin typeface="Century Gothic"/>
              </a:rPr>
              <a:t> </a:t>
            </a:r>
            <a:endParaRPr b="0" lang="en-US" sz="2500" spc="-1" strike="noStrike">
              <a:solidFill>
                <a:srgbClr val="666666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ff388c"/>
                </a:solidFill>
                <a:uFillTx/>
                <a:latin typeface="Century Gothic"/>
              </a:rPr>
              <a:t>On Your Own…</a:t>
            </a:r>
            <a:endParaRPr b="0" lang="en-US" sz="55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5998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51"/>
              </a:spcBef>
              <a:buClr>
                <a:srgbClr val="ff388c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Write 4 Sentences about your favorite hobby – Informally 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582480" indent="-514080">
              <a:spcBef>
                <a:spcPts val="751"/>
              </a:spcBef>
              <a:buClr>
                <a:srgbClr val="ff388c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Rewrite these sentences – Formally 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582480" indent="-514080">
              <a:spcBef>
                <a:spcPts val="751"/>
              </a:spcBef>
              <a:buClr>
                <a:srgbClr val="ff388c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Turn In Sentences then Continue Essay Outline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504720" y="4952880"/>
            <a:ext cx="8229600" cy="1600200"/>
            <a:chOff x="504720" y="4952880"/>
            <a:chExt cx="8229600" cy="1600200"/>
          </a:xfrm>
        </p:grpSpPr>
        <p:pic>
          <p:nvPicPr>
            <p:cNvPr id="465" name="Picture 2" descr="http://t3.gstatic.com/images?q=tbn:ANd9GcSCuCN8qNdv6kpQCwM1E5hQGBL-K8TA9v0zeCzwSBnmV4s6Ed9y"/>
            <p:cNvPicPr/>
            <p:nvPr/>
          </p:nvPicPr>
          <p:blipFill>
            <a:blip r:embed="rId1"/>
            <a:srcRect l="0" t="0" r="0" b="43288"/>
            <a:stretch/>
          </p:blipFill>
          <p:spPr>
            <a:xfrm>
              <a:off x="504720" y="4952880"/>
              <a:ext cx="30481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" descr="http://t3.gstatic.com/images?q=tbn:ANd9GcSCuCN8qNdv6kpQCwM1E5hQGBL-K8TA9v0zeCzwSBnmV4s6Ed9y"/>
            <p:cNvPicPr/>
            <p:nvPr/>
          </p:nvPicPr>
          <p:blipFill>
            <a:blip r:embed="rId2"/>
            <a:srcRect l="0" t="0" r="0" b="43288"/>
            <a:stretch/>
          </p:blipFill>
          <p:spPr>
            <a:xfrm>
              <a:off x="3552840" y="4952880"/>
              <a:ext cx="30481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" descr="http://t3.gstatic.com/images?q=tbn:ANd9GcSCuCN8qNdv6kpQCwM1E5hQGBL-K8TA9v0zeCzwSBnmV4s6Ed9y"/>
            <p:cNvPicPr/>
            <p:nvPr/>
          </p:nvPicPr>
          <p:blipFill>
            <a:blip r:embed="rId3"/>
            <a:srcRect l="0" t="0" r="0" b="43288"/>
            <a:stretch/>
          </p:blipFill>
          <p:spPr>
            <a:xfrm>
              <a:off x="5686200" y="4952880"/>
              <a:ext cx="304812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ff388c"/>
                </a:solidFill>
                <a:uFillTx/>
                <a:latin typeface="Century Gothic"/>
              </a:rPr>
              <a:t>On Your Own…</a:t>
            </a:r>
            <a:endParaRPr b="0" lang="en-US" sz="55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5998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Continue writing the body paragraphs for your essay.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01680" indent="-24012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Remember, you need to reference at least one outside source in each paragraph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01680" indent="-24012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You need to have four body paragraphs </a:t>
            </a:r>
            <a:r>
              <a:rPr b="1" i="1" lang="en-US" sz="3000" spc="-1" strike="noStrike" u="sng">
                <a:solidFill>
                  <a:srgbClr val="e40059"/>
                </a:solidFill>
                <a:uFillTx/>
                <a:latin typeface="Century Gothic"/>
              </a:rPr>
              <a:t>(for a total of 6)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504720" y="5943600"/>
            <a:ext cx="8229600" cy="609480"/>
            <a:chOff x="504720" y="5943600"/>
            <a:chExt cx="8229600" cy="609480"/>
          </a:xfrm>
        </p:grpSpPr>
        <p:pic>
          <p:nvPicPr>
            <p:cNvPr id="471" name="Picture 2" descr="http://t3.gstatic.com/images?q=tbn:ANd9GcSCuCN8qNdv6kpQCwM1E5hQGBL-K8TA9v0zeCzwSBnmV4s6Ed9y"/>
            <p:cNvPicPr/>
            <p:nvPr/>
          </p:nvPicPr>
          <p:blipFill>
            <a:blip r:embed="rId1"/>
            <a:srcRect l="0" t="0" r="0" b="43288"/>
            <a:stretch/>
          </p:blipFill>
          <p:spPr>
            <a:xfrm>
              <a:off x="504720" y="5943600"/>
              <a:ext cx="30481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" descr="http://t3.gstatic.com/images?q=tbn:ANd9GcSCuCN8qNdv6kpQCwM1E5hQGBL-K8TA9v0zeCzwSBnmV4s6Ed9y"/>
            <p:cNvPicPr/>
            <p:nvPr/>
          </p:nvPicPr>
          <p:blipFill>
            <a:blip r:embed="rId2"/>
            <a:srcRect l="0" t="0" r="0" b="43288"/>
            <a:stretch/>
          </p:blipFill>
          <p:spPr>
            <a:xfrm>
              <a:off x="3552840" y="5943600"/>
              <a:ext cx="30481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2" descr="http://t3.gstatic.com/images?q=tbn:ANd9GcSCuCN8qNdv6kpQCwM1E5hQGBL-K8TA9v0zeCzwSBnmV4s6Ed9y"/>
            <p:cNvPicPr/>
            <p:nvPr/>
          </p:nvPicPr>
          <p:blipFill>
            <a:blip r:embed="rId3"/>
            <a:srcRect l="0" t="0" r="0" b="43288"/>
            <a:stretch/>
          </p:blipFill>
          <p:spPr>
            <a:xfrm>
              <a:off x="5686200" y="5943600"/>
              <a:ext cx="30481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88c"/>
                </a:solidFill>
                <a:uFillTx/>
                <a:latin typeface="Century Gothic"/>
              </a:rPr>
              <a:t>INDEPENDENT READING</a:t>
            </a:r>
            <a:endParaRPr b="0" lang="en-US" sz="4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09480" y="1218960"/>
            <a:ext cx="79250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The Giver – Chapter 18 </a:t>
            </a:r>
            <a:br>
              <a:rPr sz="3000"/>
            </a:b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Complete At Least 3 Double Entry Journals – Turn in at the end of reading tim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30" name="Content Placeholder 3" descr=""/>
          <p:cNvPicPr/>
          <p:nvPr/>
        </p:nvPicPr>
        <p:blipFill>
          <a:blip r:embed="rId1"/>
          <a:srcRect l="0" t="12731" r="0" b="12731"/>
          <a:stretch/>
        </p:blipFill>
        <p:spPr>
          <a:xfrm>
            <a:off x="457200" y="320040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88c"/>
                </a:solidFill>
                <a:latin typeface="Century Gothic"/>
              </a:rPr>
              <a:t>Formal Writing Rules</a:t>
            </a:r>
            <a:endParaRPr b="0" lang="en-US" sz="36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242"/>
                </a:solidFill>
                <a:latin typeface="Century Gothic"/>
              </a:rPr>
              <a:t>Live them, love them, learn them, USE THEM!</a:t>
            </a:r>
            <a:endParaRPr b="0" lang="en-US" sz="1800" spc="-1" strike="noStrike">
              <a:solidFill>
                <a:srgbClr val="666666"/>
              </a:solidFill>
              <a:latin typeface="Century Gothic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388c"/>
                </a:solidFill>
                <a:uFillTx/>
                <a:latin typeface="Century Gothic"/>
              </a:rPr>
              <a:t>Formal Writing</a:t>
            </a:r>
            <a:r>
              <a:rPr b="1" lang="en-US" sz="6000" spc="-1" strike="noStrike" u="sng">
                <a:solidFill>
                  <a:srgbClr val="ff388c"/>
                </a:solidFill>
                <a:uFillTx/>
                <a:latin typeface="Century Gothic"/>
              </a:rPr>
              <a:t>	</a:t>
            </a:r>
            <a:endParaRPr b="0" lang="en-US" sz="6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1676520"/>
            <a:ext cx="79250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99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8007f"/>
                </a:solidFill>
                <a:latin typeface="Century Gothic"/>
              </a:rPr>
              <a:t>Each main point needs to be introduced, elaborated and concluded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Types of formal writing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Essays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Research essays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35" name="Picture 10" descr="http://www.uni-koblenz.de/~edmartin/pic/writing.png"/>
          <p:cNvPicPr/>
          <p:nvPr/>
        </p:nvPicPr>
        <p:blipFill>
          <a:blip r:embed="rId1"/>
          <a:stretch/>
        </p:blipFill>
        <p:spPr>
          <a:xfrm>
            <a:off x="5929200" y="2743200"/>
            <a:ext cx="1596960" cy="1293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http://www.clker.com/cliparts/B/5/K/q/t/3/students-hi.png"/>
          <p:cNvPicPr/>
          <p:nvPr/>
        </p:nvPicPr>
        <p:blipFill>
          <a:blip r:embed="rId2"/>
          <a:stretch/>
        </p:blipFill>
        <p:spPr>
          <a:xfrm>
            <a:off x="5181480" y="4224240"/>
            <a:ext cx="3353040" cy="22528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Rules of Formal Writing 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Do Not Use PRONOUNS: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I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W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M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Us</a:t>
            </a:r>
            <a:br>
              <a:rPr sz="3000"/>
            </a:b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Only Write in THIRD PERSON </a:t>
            </a:r>
            <a:br>
              <a:rPr sz="3000"/>
            </a:br>
            <a:r>
              <a:rPr b="1" i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(He, It, She, They)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39" name="Picture 10" descr="http://languagearts.pppst.com/m_pronouns.gif"/>
          <p:cNvPicPr/>
          <p:nvPr/>
        </p:nvPicPr>
        <p:blipFill>
          <a:blip r:embed="rId1"/>
          <a:stretch/>
        </p:blipFill>
        <p:spPr>
          <a:xfrm>
            <a:off x="2514600" y="2209680"/>
            <a:ext cx="3733920" cy="2651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http://www.adams.k12.mi.us/wp-content/uploads/2010/10/free-graduation-clipart-6.jpg"/>
          <p:cNvPicPr/>
          <p:nvPr/>
        </p:nvPicPr>
        <p:blipFill>
          <a:blip r:embed="rId2"/>
          <a:stretch/>
        </p:blipFill>
        <p:spPr>
          <a:xfrm>
            <a:off x="6019920" y="1523880"/>
            <a:ext cx="2238120" cy="23338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More With Pronouns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876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8007f"/>
                </a:solidFill>
                <a:latin typeface="Century Gothic"/>
              </a:rPr>
              <a:t>Keep your emotions out of it!</a:t>
            </a:r>
            <a:br>
              <a:rPr sz="3500"/>
            </a:br>
            <a:r>
              <a:rPr b="1" lang="en-US" sz="3500" spc="-1" strike="noStrike">
                <a:solidFill>
                  <a:srgbClr val="68007f"/>
                </a:solidFill>
                <a:latin typeface="Century Gothic"/>
              </a:rPr>
              <a:t> </a:t>
            </a: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  <a:p>
            <a:pPr marL="325800" indent="-259560">
              <a:lnSpc>
                <a:spcPct val="90000"/>
              </a:lnSpc>
              <a:spcBef>
                <a:spcPts val="876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8007f"/>
                </a:solidFill>
                <a:latin typeface="Century Gothic"/>
              </a:rPr>
              <a:t>Use outside sources to SUPPORT your points.</a:t>
            </a: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  <a:p>
            <a:pPr marL="325800" indent="-259560">
              <a:lnSpc>
                <a:spcPct val="90000"/>
              </a:lnSpc>
              <a:spcBef>
                <a:spcPts val="876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5bd3"/>
                </a:solidFill>
                <a:latin typeface="Century Gothic"/>
              </a:rPr>
              <a:t>Keep your passion, but watch your writing.  </a:t>
            </a:r>
            <a:endParaRPr b="0" lang="en-US" sz="35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43" name="Picture 8" descr="http://www.illustrationsof.com/royalty-free-students-clipart-illustration-215425.jpg"/>
          <p:cNvPicPr/>
          <p:nvPr/>
        </p:nvPicPr>
        <p:blipFill>
          <a:blip r:embed="rId1"/>
          <a:srcRect l="0" t="13505" r="0" b="20996"/>
          <a:stretch/>
        </p:blipFill>
        <p:spPr>
          <a:xfrm>
            <a:off x="5867280" y="3733920"/>
            <a:ext cx="2659320" cy="1828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1" descr="http://www.clipartbest.com/cliparts/ndc/8kX/ndc8kXpTe.jpeg"/>
          <p:cNvPicPr/>
          <p:nvPr/>
        </p:nvPicPr>
        <p:blipFill>
          <a:blip r:embed="rId2"/>
          <a:stretch/>
        </p:blipFill>
        <p:spPr>
          <a:xfrm>
            <a:off x="5791320" y="1495440"/>
            <a:ext cx="281916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Rules of Formal Writing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Do not use CONTRACTIONS</a:t>
            </a: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Ca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Can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Wo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Will 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Do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Do 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Couldn’t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Could No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They’re </a:t>
            </a: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= They are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4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Etc.</a:t>
            </a:r>
            <a:br>
              <a:rPr sz="1800"/>
            </a:br>
            <a:r>
              <a:rPr b="1" lang="en-US" sz="1800" spc="-1" strike="noStrike">
                <a:solidFill>
                  <a:srgbClr val="666666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Century Gothic"/>
            </a:endParaRPr>
          </a:p>
          <a:p>
            <a:pPr lvl="3" marL="1123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bd3"/>
                </a:solidFill>
                <a:latin typeface="Century Gothic"/>
              </a:rPr>
              <a:t>This will eliminate silly mistakes in using the wrong word.  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47" name="Picture 8" descr="http://languagearts.k12flash.com/contractions.gif"/>
          <p:cNvPicPr/>
          <p:nvPr/>
        </p:nvPicPr>
        <p:blipFill>
          <a:blip r:embed="rId1"/>
          <a:stretch/>
        </p:blipFill>
        <p:spPr>
          <a:xfrm>
            <a:off x="5257800" y="2209680"/>
            <a:ext cx="3282840" cy="27529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Rules of Formal Writing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8007f"/>
                </a:solidFill>
                <a:uFillTx/>
                <a:latin typeface="Century Gothic"/>
              </a:rPr>
              <a:t>Be CONCRETE with your ideas</a:t>
            </a: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Avoid Abbreviations 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bd3"/>
                </a:solidFill>
                <a:latin typeface="Century Gothic"/>
              </a:rPr>
              <a:t>TV = Television</a:t>
            </a:r>
            <a:endParaRPr b="0" lang="en-US" sz="2800" spc="-1" strike="noStrike">
              <a:solidFill>
                <a:srgbClr val="66666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bd3"/>
                </a:solidFill>
                <a:latin typeface="Century Gothic"/>
              </a:rPr>
              <a:t>CT = Connecticut</a:t>
            </a:r>
            <a:br>
              <a:rPr sz="2800"/>
            </a:br>
            <a:r>
              <a:rPr b="1" lang="en-US" sz="2800" spc="-1" strike="noStrike">
                <a:solidFill>
                  <a:srgbClr val="005bd3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Avoid using words like “things”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Century Gothic"/>
            </a:endParaRPr>
          </a:p>
          <a:p>
            <a:pPr lvl="1" marL="639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bd3"/>
                </a:solidFill>
                <a:latin typeface="Century Gothic"/>
              </a:rPr>
              <a:t>Do not use these phrases because they are over used and vague</a:t>
            </a:r>
            <a:endParaRPr b="0" lang="en-US" sz="24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50" name="Picture 2" descr="http://myschoolclipart.com/1024/clip-art-of-a-yellow-pencil-mascot-cartoon-character-with-a-bright-idea-by-toons4biz-233.jpg"/>
          <p:cNvPicPr/>
          <p:nvPr/>
        </p:nvPicPr>
        <p:blipFill>
          <a:blip r:embed="rId1"/>
          <a:srcRect l="19970" t="0" r="21306" b="0"/>
          <a:stretch/>
        </p:blipFill>
        <p:spPr>
          <a:xfrm>
            <a:off x="6781680" y="13716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http://images.clipartof.com/small/1094106-Clipart-School-Boy-Writing-An-Essay-Royalty-Free-Vector-Illustration.jpg"/>
          <p:cNvPicPr/>
          <p:nvPr/>
        </p:nvPicPr>
        <p:blipFill>
          <a:blip r:embed="rId2"/>
          <a:srcRect l="0" t="0" r="0" b="5128"/>
          <a:stretch/>
        </p:blipFill>
        <p:spPr>
          <a:xfrm>
            <a:off x="861840" y="5170320"/>
            <a:ext cx="1424160" cy="13068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88c"/>
                </a:solidFill>
                <a:uFillTx/>
                <a:latin typeface="Century Gothic"/>
              </a:rPr>
              <a:t>Use Outside Sources</a:t>
            </a:r>
            <a:endParaRPr b="0" lang="en-US" sz="5000" spc="-1" strike="noStrike">
              <a:solidFill>
                <a:srgbClr val="ff388c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Always know what you are talking about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8007f"/>
                </a:solidFill>
                <a:latin typeface="Century Gothic"/>
              </a:rPr>
              <a:t>Research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Be informativ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ff388c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bd3"/>
                </a:solidFill>
                <a:latin typeface="Century Gothic"/>
              </a:rPr>
              <a:t>Be concise</a:t>
            </a:r>
            <a:endParaRPr b="0" lang="en-US" sz="3000" spc="-1" strike="noStrike">
              <a:solidFill>
                <a:srgbClr val="666666"/>
              </a:solidFill>
              <a:latin typeface="Century Gothic"/>
            </a:endParaRPr>
          </a:p>
        </p:txBody>
      </p:sp>
      <p:pic>
        <p:nvPicPr>
          <p:cNvPr id="454" name="Picture 8" descr="http://www.clker.com/cliparts/F/P/m/v/c/F/internet-hi.png"/>
          <p:cNvPicPr/>
          <p:nvPr/>
        </p:nvPicPr>
        <p:blipFill>
          <a:blip r:embed="rId1"/>
          <a:stretch/>
        </p:blipFill>
        <p:spPr>
          <a:xfrm>
            <a:off x="4800600" y="1676520"/>
            <a:ext cx="1943280" cy="1803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http://www.illustrationsof.com/royalty-free-books-clipart-illustration-217176.jpg"/>
          <p:cNvPicPr/>
          <p:nvPr/>
        </p:nvPicPr>
        <p:blipFill>
          <a:blip r:embed="rId2"/>
          <a:srcRect l="0" t="0" r="0" b="4819"/>
          <a:stretch/>
        </p:blipFill>
        <p:spPr>
          <a:xfrm>
            <a:off x="6553080" y="3124080"/>
            <a:ext cx="1752840" cy="1751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http://image.shutterstock.com/display_pic_with_logo/602218/118069294/stock-vector-newspaper-retro-clipart-illustration-118069294.jpg"/>
          <p:cNvPicPr/>
          <p:nvPr/>
        </p:nvPicPr>
        <p:blipFill>
          <a:blip r:embed="rId3"/>
          <a:srcRect l="0" t="8424" r="0" b="18029"/>
          <a:stretch/>
        </p:blipFill>
        <p:spPr>
          <a:xfrm>
            <a:off x="3962520" y="3809880"/>
            <a:ext cx="2314440" cy="1438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http://images.clipartpanda.com/pencil-clipart-pencil2.png"/>
          <p:cNvPicPr/>
          <p:nvPr/>
        </p:nvPicPr>
        <p:blipFill>
          <a:blip r:embed="rId4"/>
          <a:stretch/>
        </p:blipFill>
        <p:spPr>
          <a:xfrm>
            <a:off x="6016680" y="5029200"/>
            <a:ext cx="1454040" cy="14540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2:44:51Z</dcterms:created>
  <dc:creator>J Lail</dc:creator>
  <dc:description/>
  <dc:language>en-US</dc:language>
  <cp:lastModifiedBy>Shettle, Meghan</cp:lastModifiedBy>
  <dcterms:modified xsi:type="dcterms:W3CDTF">2014-12-16T13:34:07Z</dcterms:modified>
  <cp:revision>20</cp:revision>
  <dc:subject/>
  <dc:title>Rules of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